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00CF-1A58-4A18-BCB4-79FDD39AE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F93E2-8D68-422D-9D64-1C74B3C52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6191-714F-4B8D-8258-B21916756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B2B66-8CB3-4C07-BCBD-152EC78B4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5AA1F-6CED-47A9-9D93-FBFA811A4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0CDE0-06BB-4FE5-9323-D5824695A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388A7-C820-47D8-9C8F-B8C76A886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4EEF-CEA4-499D-8697-2110300C0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C0EA-C0F5-479D-8797-B52798336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447920" y="1257120"/>
            <a:ext cx="6324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35338-65CD-4409-BFEE-74E2E98F98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6451E-F5EB-4EBF-B5CC-6AF89922F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8CC-C3D4-45E1-854D-616A80A28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3BF68-EED0-40CC-B207-508C434D7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AFFC8-AF7B-4F22-A564-4CA86BCD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469A9-E3BC-4C51-9C95-5A0872BA1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99C99-60C0-44EC-BA73-401487CE89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2976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916680" y="25905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274284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482976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916680" y="4341960"/>
            <a:ext cx="1987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BBA45-3FB6-4C66-B576-4268ADFF2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3363-0907-452F-B3D3-92BE6708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290C-A0C0-49FB-8245-9F5813271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82A3-3153-4BAA-8018-9C28CB0E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447920" y="1257120"/>
            <a:ext cx="6324480" cy="512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23B8C-D2FC-46CE-A2DB-B4414434A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2F66-E7D1-4ECF-A2F9-1F36840A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905440" y="43419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E4CA-0663-4DCE-8522-EE4617924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905440" y="2590560"/>
            <a:ext cx="301176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742840" y="4341960"/>
            <a:ext cx="6172200" cy="159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D5C2-6E8B-4398-AB7D-541DED748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700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47204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892520" indent="-210240">
              <a:spcBef>
                <a:spcPts val="700"/>
              </a:spcBef>
              <a:buClr>
                <a:srgbClr val="ffcc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892520" indent="-2102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>
            <a:hlinkClick r:id="" action="ppaction://hlinkshowjump?jump=previousslide"/>
          </p:cNvPr>
          <p:cNvSpPr/>
          <p:nvPr/>
        </p:nvSpPr>
        <p:spPr>
          <a:xfrm>
            <a:off x="7162920" y="6629400"/>
            <a:ext cx="1052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"/>
              </a:rPr>
              <a:t>z u r ü c 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>
            <a:hlinkClick r:id="" action="ppaction://hlinkshowjump?jump=nextslide"/>
          </p:cNvPr>
          <p:cNvSpPr/>
          <p:nvPr/>
        </p:nvSpPr>
        <p:spPr>
          <a:xfrm>
            <a:off x="8229600" y="6629400"/>
            <a:ext cx="91440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"/>
              </a:rPr>
              <a:t>w e i t e 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>
            <a:hlinkClick r:id="" action="ppaction://hlinkshowjump?jump=firstslide"/>
          </p:cNvPr>
          <p:cNvSpPr/>
          <p:nvPr/>
        </p:nvSpPr>
        <p:spPr>
          <a:xfrm>
            <a:off x="5791320" y="6630840"/>
            <a:ext cx="1204920" cy="22716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"/>
              </a:rPr>
              <a:t>S t a r t s e i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76212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B7C62-4589-489C-9F4D-8DC2FFA6CBA9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36576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E9192-39A4-4DA0-AC20-FFA4B44E9FA5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458640"/>
            <a:ext cx="1676520" cy="6399360"/>
          </a:xfrm>
          <a:prstGeom prst="rect">
            <a:avLst/>
          </a:pr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43000" y="0"/>
            <a:ext cx="1447920" cy="380988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447920" y="1143000"/>
            <a:ext cx="6324480" cy="1371600"/>
          </a:xfrm>
          <a:prstGeom prst="rect">
            <a:avLst/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81040" y="6086520"/>
            <a:ext cx="1333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>
            <a:hlinkClick r:id="" action="ppaction://hlinkshowjump?jump=previousslide"/>
          </p:cNvPr>
          <p:cNvSpPr/>
          <p:nvPr/>
        </p:nvSpPr>
        <p:spPr>
          <a:xfrm>
            <a:off x="7162920" y="6629400"/>
            <a:ext cx="105228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"/>
              </a:rPr>
              <a:t>z u r ü c 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>
            <a:hlinkClick r:id="" action="ppaction://hlinkshowjump?jump=nextslide"/>
          </p:cNvPr>
          <p:cNvSpPr/>
          <p:nvPr/>
        </p:nvSpPr>
        <p:spPr>
          <a:xfrm>
            <a:off x="8229600" y="6629400"/>
            <a:ext cx="912960" cy="22860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"/>
              </a:rPr>
              <a:t>w e i t e 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>
            <a:hlinkClick r:id="" action="ppaction://hlinkshowjump?jump=firstslide"/>
          </p:cNvPr>
          <p:cNvSpPr/>
          <p:nvPr/>
        </p:nvSpPr>
        <p:spPr>
          <a:xfrm>
            <a:off x="5791320" y="6630840"/>
            <a:ext cx="1218960" cy="227160"/>
          </a:xfrm>
          <a:prstGeom prst="rect">
            <a:avLst/>
          </a:prstGeom>
          <a:noFill/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cc0000"/>
                </a:solidFill>
                <a:latin typeface="Arial"/>
              </a:rPr>
              <a:t>S t a r t s e i t 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762120" y="54864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B296D-D5C0-485D-AC45-17AF1A79382D}" type="datetime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-360" y="5943600"/>
            <a:ext cx="2590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40384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BA0AF-3CF5-4F32-BFB0-32195DA7F180}" type="slidenum">
              <a:rPr b="0" lang="de-DE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66"/>
              </a:buClr>
              <a:buSzPct val="75000"/>
              <a:buFont typeface="Monotype Sorts" charset="2"/>
              <a:buChar char="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ffcc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71600" y="1218960"/>
            <a:ext cx="63244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Titel der Betriebsversammlung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895120" y="2895120"/>
            <a:ext cx="49532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</a:rPr>
              <a:t>Vortragend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C2C62FC0-4932-4D45-A59C-1C2B99C5CF7B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Tagesordnung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F410F7-2DDB-43B9-8477-94E12A47A210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Besprechung der Hauptziele</a:t>
            </a:r>
            <a:br>
              <a:rPr sz="3200"/>
            </a:b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&amp; wichtige Erfolgsfaktore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macht eine Firma einzigartig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Was macht eine Firma erfolgreich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Gemeinsame Vi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Besprechen Sie die Hauptprojekte des letzten Jahr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B95837-400A-4845-BF67-E19670EC8AC8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1257120"/>
            <a:ext cx="6324480" cy="110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</a:rPr>
              <a:t>Ihre Meinung über uns?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742840" y="2590560"/>
            <a:ext cx="617220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Arial"/>
              </a:rPr>
              <a:t>Kurze Übersicht der Leistung im Vergleich zu jedem Zi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FB5C0D-D01F-4F6E-A83C-69C80272E56D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5-28T14:09:09Z</dcterms:created>
  <dc:creator>Marco Boerries</dc:creator>
  <dc:description/>
  <dc:language>en-US</dc:language>
  <cp:lastModifiedBy>Marco Boerries</cp:lastModifiedBy>
  <dcterms:modified xsi:type="dcterms:W3CDTF">1999-05-28T14:09:44Z</dcterms:modified>
  <cp:revision>1</cp:revision>
  <dc:subject/>
  <dc:title>Titel der Betriebsversammlung</dc:title>
</cp:coreProperties>
</file>